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D4BB-17D4-43C4-8660-BCE23017E4D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Zielgruppe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ultierende Forderung: leicht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erständlichkei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z.B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eine Formel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fast vollständiger Verzicht auf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thodische Hinwe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ayou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seblattsammlung – Hinweis auf spätere Änderungsmöglichkeite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icht mehr als schnell vergilbtes Amtsbla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C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Jahrgangsstufenplä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fang: Angaben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erbindli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uktur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inspaltige Inhaltslisten: also keine Methodenhinweise, keine Erklärungen für den Lehr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undfertigkeiten sind von Grundwissen zu unterscheiden 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eine Inhaltslis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sondern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lgemein formulierte Jahrgangszie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voraussichtliche Überschrift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chhaltiges Lern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KMBek-Ebe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er neu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ülerkonturen (=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ädagogisch-psychologisches Profi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r Jahrgangsstufen) und pädagogische Akzente (=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onsequenzen für das Schullebe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; Problem: grobes Raster, Schubladendenken, nur über alle Jahrgangsstufen hinweg ausreichend informat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chprofil (Entwurf liegt jedem SL vor), Gliederu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Selbstverständnis des Fachs/Unterrichtsfac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Beitrag zur gymnasialen Bil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Beitrag zur Persönlichkeitsbil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Fächerübergreifende Zusammenarb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Grundlegende Ziele und Inha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Besonderheiten (Hinweise zur Unterrichtsgestaltu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ink-Ebe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Über die Vorgaben und Leitlinien hinaus 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muss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die Kommission zu einigen Bereichen neue Ideen und Konzepte entwickeln. Da deren Kenntnis die Interpretation des Lehrplans erleichtert, soll hier auf einige Ideen und Konzepte eingegangen werd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Hier: 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Umgang mit den „neuen“ Fäch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u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isher erkennbare Konzeption des Fachs erlaubt den Verzicht auf die „exemplarische Einführung in die Physik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Inf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Inhaltliche Abstimmung schwier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Welche Anknüpfungsmöglichkeiten (insb. am NTG) möglich sind, ist noch nicht erkennb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erzeitige Tendenz: Informatik-Grundwissen für Physik nicht unmittelbar nutzbar (am Nicht-NTG nur in Jgst. 6!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chülerübunge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fa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.B. gemäß Jahrgangsstufenplan (8): „ sind ..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gelmäßige Schülerübunge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und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jektartige Unterrichtsvorhabe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unerlässlich.“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lassenteilunge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gl. Fachprofil: „Um einen effizienten und vor allem auch sicheren Ablauf zu gewährleisten, ist hierbei auf angemessene Gruppengrößen zu achten; gegebenenfall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ann dies durch Teilu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r Klasse erreicht werden.“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twicklung der Experimentalkultu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gl. Fachprofil: „Die Schülerinnen und  Schüler sollen regelmäßig selbst Experimente durchführen, um ihr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reativitä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und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thodenkompetenz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zu fördern.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ojektartige Vorhabe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weitert die Möglichkeiten des bisher vorgeschriebenen Unterrichtsprojek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Zum Vergleich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eu: 52 (= 47 + 5) statt bisher 56 Jahreswochenstunden (als Planungsgrundl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Teilweise verpflichtende NTG-Vertiefunge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Jahrgangsstufe 9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erpetuum mobile, geschichtliche Entwicklung des Energiebegriffs / Spannenergie bei hookeschen Federn / Druck in Flüssigkeiten und Gasen / spezifische Wärmekapazität, Solarkonstante / Reibung / Sonnenkollektoren / Treibhauseffekt / 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Druck in Flüssigkeiten und Gasen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/ Aufbau des internationalen Einheitensystems / Aufnahme der Fallbewegung, Schwerelosigkeit, Gewichtskraft auf dem M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Jahrgangsstufe 10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elbstinduktion mit Anwendungen / 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Halbleiter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/ Hochspannungstechnik zur Energieübertrag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Jahrgangsstufe 11: noch nicht ausgereift (bisher nur ausgewiesen: „zweidimensionale stehende Wellen“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Exemplarisierung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.h. keine Physiker-Ausbildung, sondern solide Grundlage für naturwissenschaftliches Arbei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eu“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inige politische Entscheidungen waren bereits im Vorfeld bekan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inige Forderungen und Wünsche wurden schon 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seit Jahren von Lehrergruppen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und -verbänden geäuße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Ausbildungsrichtungen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TG = ersetzt das bisherige M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WSG = vereint die beiden bisherigen Ausbildungsricht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pG = bisherige neusprachliche + humanistisches Gy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uG = fortentwickeltes bisheriges M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Bilanz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der Stundentafe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Je 1 Stunde Physik mehr (außer MuG); jedoch keine Stunden in 6 und 7, würdig für ein 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Kernfach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NuT als Grundstoc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/naturwissenschaftliche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olgerung: inhaltliche Kürzungen können geringer ausfallen als zu befürchten w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A36A-1728-4CC4-ACF7-F2DEAF56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91FA-4471-4B3D-8F6C-F345C2C0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A076-AE01-45E3-A030-1D9BA093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C943-7446-4F42-B6E0-97246F6B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536E-62EE-45EB-B941-426066FD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B8B0-0ADC-4BAC-9F87-B05CF810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626C-6AEA-4626-9A96-8A62B3C2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86DE-60D6-4422-B64C-DDD6B86F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7432-18C8-4B92-961B-23C14044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D0E-39F9-48DA-AF4F-8B287E95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8E94-2E11-4657-B2F4-7A4CEBAD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EA12-0C90-45CF-BA9D-EB5488B4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32CB-A5B6-4372-B4A4-09A4EEFB1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achdidaktik Physik</a:t>
            </a:r>
            <a:br>
              <a:rPr sz="2400"/>
            </a:b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deen - Gedanken - Konzepte </a:t>
            </a:r>
            <a:br>
              <a:rPr sz="3600"/>
            </a:b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zum neuen Lehrplan</a:t>
            </a:r>
            <a:br>
              <a:rPr sz="3600"/>
            </a:br>
            <a:br>
              <a:rPr sz="2400"/>
            </a:b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Norbert Schell </a:t>
            </a: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10.10.2002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876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tritt in Kraft ab 2003/2004 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mit der 5. Kla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Physik ab 2006/07 in Jahrgangsstufe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efragung der Physiklehrer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18192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efragung der Physiklehrer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15328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efragung der Physiklehrer (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7391520" cy="2398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3962520"/>
            <a:ext cx="85345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de-DE" sz="1600" spc="-1" strike="noStrike">
                <a:solidFill>
                  <a:srgbClr val="ffff66"/>
                </a:solidFill>
                <a:latin typeface="Times New Roman"/>
              </a:rPr>
              <a:t>1                2             3              4              5             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66"/>
                </a:solidFill>
                <a:latin typeface="Times New Roman"/>
              </a:rPr>
              <a:t>                          </a:t>
            </a:r>
            <a:r>
              <a:rPr b="0" lang="de-DE" sz="1600" spc="-1" strike="noStrike">
                <a:solidFill>
                  <a:srgbClr val="ffff66"/>
                </a:solidFill>
                <a:latin typeface="Times New Roman"/>
              </a:rPr>
              <a:t>1: Weiterentwicklung der Aufgabenkult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66"/>
                </a:solidFill>
                <a:latin typeface="Times New Roman"/>
              </a:rPr>
              <a:t>                                            </a:t>
            </a:r>
            <a:r>
              <a:rPr b="0" lang="de-DE" sz="1600" spc="-1" strike="noStrike">
                <a:solidFill>
                  <a:srgbClr val="ffff66"/>
                </a:solidFill>
                <a:latin typeface="Times New Roman"/>
              </a:rPr>
              <a:t>2: Förderung von kumulativem Ler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          </a:t>
            </a:r>
            <a:r>
              <a:rPr b="0" lang="de-DE" sz="1600" spc="-1" strike="noStrike">
                <a:solidFill>
                  <a:srgbClr val="ffff66"/>
                </a:solidFill>
                <a:latin typeface="Times New Roman"/>
              </a:rPr>
              <a:t>3: Sicherung von Basiswissen; Sicherung von Wi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                          </a:t>
            </a:r>
            <a:r>
              <a:rPr b="0" lang="de-DE" sz="1600" spc="-1" strike="noStrike">
                <a:solidFill>
                  <a:srgbClr val="ffff66"/>
                </a:solidFill>
                <a:latin typeface="Times New Roman"/>
              </a:rPr>
              <a:t>4:  Fächerverbindendes Arbe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                                           </a:t>
            </a:r>
            <a:r>
              <a:rPr b="0" lang="de-DE" sz="1600" spc="-1" strike="noStrike">
                <a:solidFill>
                  <a:srgbClr val="ffff66"/>
                </a:solidFill>
                <a:latin typeface="Times New Roman"/>
              </a:rPr>
              <a:t>5: konstruktiver Umgang mit Fehl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                                                    </a:t>
            </a:r>
            <a:r>
              <a:rPr b="0" lang="de-DE" sz="1600" spc="-1" strike="noStrike">
                <a:solidFill>
                  <a:srgbClr val="ffff66"/>
                </a:solidFill>
                <a:latin typeface="Times New Roman"/>
              </a:rPr>
              <a:t>6: Förderung von Mädchen und J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efragung der Physiklehrer (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1676520"/>
            <a:ext cx="7086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Fragen zu Lerninhalten der einzelnen Jahrgangsstuf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8763120" cy="3514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52280" y="2286000"/>
            <a:ext cx="8763120" cy="3505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52280" y="2057400"/>
            <a:ext cx="876312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efragung der Physiklehrer (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676520"/>
            <a:ext cx="7086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Fragen zu Lerninhalten der einzelnen Jahrgangsstuf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391520" cy="4535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7467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Grundlegende Änderunge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Richtlinienlehrplan</a:t>
            </a:r>
            <a:br>
              <a:rPr sz="2800"/>
            </a:b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- mehr Freiraum für den Lehrer</a:t>
            </a:r>
            <a:br>
              <a:rPr sz="2800"/>
            </a:b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- mehr Verantwortung für den Lehrer</a:t>
            </a:r>
            <a:br>
              <a:rPr sz="2800"/>
            </a:b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- Freiraum für horizontale Vernetzung</a:t>
            </a:r>
            <a:br>
              <a:rPr sz="2800"/>
            </a:b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- Freiraum für vertikale Vertie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Kumulatives Ler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Informationsblöcke (ohne fachlogische Begründu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Planen und Argumentieren in naturwissenschaftl. Konzep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Richtiger Grad an Mathematis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Grundlegende Änderunge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Vorstellung von Physik vermitteln (Modellbildu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Bezüge zur modernen Phys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Bezüge zur modernen Technik (Halbleiter, Nanotechnologie,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Integration des Comp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Förderung von Jungen und Mäd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Imagesteigerung der naturwissenschaftlichen Fä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Kompetenzen und Metho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Selbständigkeit, Eigenaktivität, Eigeninitiative förd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Schüleraktiv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Allgemeine personale Kompetenz fördern und fordern</a:t>
            </a:r>
            <a:br>
              <a:rPr sz="2400"/>
            </a:b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(Sozialkompetenz, Medienkompetenz, Schlüsselqualifikationen,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Problemlösende Ansätze, kumulatives und strategisches Lernen unterstü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Methoden zur Informationsbeschaffung, –</a:t>
            </a:r>
            <a:r>
              <a:rPr b="0" lang="de-DE" sz="2400" spc="-1" strike="noStrike" u="sng">
                <a:solidFill>
                  <a:srgbClr val="ffff66"/>
                </a:solidFill>
                <a:uFillTx/>
                <a:latin typeface="Times New Roman"/>
              </a:rPr>
              <a:t>bearbeitung und - bewertung 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schu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Aufgabenkultur, Experimentierkul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Grundwissen, Grundfertigkeiten, Kompetenzen </a:t>
            </a:r>
            <a:br>
              <a:rPr sz="2400"/>
            </a:b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(von der Schule festzule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66"/>
                </a:solidFill>
                <a:latin typeface="Times New Roman"/>
              </a:rPr>
              <a:t>Übergeordnete Zi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Verstehen, was Physik ist und womit sie sich beschäfti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Kenntnis der typischen Ansätze und Methoden der Phy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hysikalische Grundprinzipien ke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hysikalisches Experimentieren beherr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edeutung der Physik für die persönliche Entwicklung erke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Vorstellungen und Konzepte zu Fragestellungen aus Natur und Technik ke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Umgang mit Wissen und Information beherr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Formale Vorgaben des KM/IS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Zielgruppen: Lehrer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und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Eltern, Hochschulen, Verbänd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oseblattsammlung mit ansprechendem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D- und Internet-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Jahrgangsstufenplä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Umfang (Jgst. 8: 2 Seiten, Jgst. 9 – 11: 3 Sei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truktur: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- einleitender Ziel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- einspaltige Inhaltsl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- Auflistung von grundlegenden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Kenntnissen und Fertigk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Stundentafel</a:t>
            </a:r>
            <a:br>
              <a:rPr sz="4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aturwissenschaftlich-technologisches Gymnasium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NT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tundentafel%20NT" descr=""/>
          <p:cNvPicPr/>
          <p:nvPr/>
        </p:nvPicPr>
        <p:blipFill>
          <a:blip r:embed="rId1"/>
          <a:srcRect l="2831" t="13433" r="18868" b="22388"/>
          <a:stretch/>
        </p:blipFill>
        <p:spPr>
          <a:xfrm>
            <a:off x="838080" y="2209680"/>
            <a:ext cx="7772400" cy="4213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04920" y="45716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Konzeptionelle Vorgaben des KM/IS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523880"/>
            <a:ext cx="8458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KMBek-Eb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1. Bildungsauftrag des Gymnasi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2. Fach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3. Jahrgangsstufenplä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Schülerkonturen/pädagogische Akz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Angabe von erworbenen Grundkennt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Link-Eb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1. Erläuterungen, Kommentare, Bsp. für Schulaufgaben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2. Methodische Empfehlungen, Materialien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3. Beispiele, Projekte einzelner Schulen,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Natur und Technik in Jgst. 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Unterrichtung durch Physiklehrer nicht gesich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Keine inhaltliche Verknüpfung mit Physikthemen der Jgst.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Verzicht auf die bisherige „exemplarische“ Einführung in die Phys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Konzepte im neuen Lehr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Schülerübung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„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unerlässlich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Klassenteilung im Rahmen der Budgetierung empfo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endenz zu „offeneren“ experimentellen Aufgabenstell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Projektartige Vorhab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„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unerlässlich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5 Unterrichtsstunden pro Jahr sind hierfür frei gehal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eitere Stunden im Rahmen der individuellen Schwerpunktse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Zeitangaben und Zeitökonomi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47 Std. inhaltlich gebunden (bisher 56 bzw. 8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5 Std. für besondere Aktivitäten reserv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m NTG: verbindliche Vertiefungen statt Addita (angegeben mit „</a:t>
            </a: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NTG: ...“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Gleiche Ausführlichkeit aller Inhalte nicht mögl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chwerpunktsetzung bzw. Exemplarisierung erforderlic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Gegebenenfalls auch Info-Blöcke (statt fragend-entwickelndem Unterric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8.Klasse: 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aturwissenschaftliches Arbeiten in der Phy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2057400"/>
            <a:ext cx="74674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Optik (12)</a:t>
            </a:r>
            <a:br>
              <a:rPr sz="2000"/>
            </a:b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gradlinige Ausbreitung des Lichts, Licht an Grenzflä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Far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Elektrischer Strom (10)</a:t>
            </a:r>
            <a:br>
              <a:rPr sz="2000"/>
            </a:b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Stromkreis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Stromstärke, Spannung, Widerst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Kinematik (8)</a:t>
            </a:r>
            <a:br>
              <a:rPr sz="2000"/>
            </a:b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Beschreibung und Darstellung von Bewegungsabläu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Kräfte in Natur und Technik (1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Stundenpool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9.Klasse 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nergieerhaltung – ein fundamentales Naturprinz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905120"/>
            <a:ext cx="746784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33"/>
                </a:solidFill>
                <a:latin typeface="Times New Roman"/>
              </a:rPr>
              <a:t>Energie als Erhaltungsgröße (13)</a:t>
            </a:r>
            <a:br>
              <a:rPr sz="2000"/>
            </a:br>
            <a:r>
              <a:rPr b="0" lang="de-DE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66"/>
                </a:solidFill>
                <a:latin typeface="Times New Roman"/>
              </a:rPr>
              <a:t>- Energieformen in der Mechan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33"/>
                </a:solidFill>
                <a:latin typeface="Times New Roman"/>
              </a:rPr>
              <a:t>Aufbau der Materie und innere Energie (14)</a:t>
            </a:r>
            <a:br>
              <a:rPr sz="2000"/>
            </a:br>
            <a:r>
              <a:rPr b="0" lang="de-DE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66"/>
                </a:solidFill>
                <a:latin typeface="Times New Roman"/>
              </a:rPr>
              <a:t>- Änderung der inneren Energie</a:t>
            </a:r>
            <a:br>
              <a:rPr sz="2000"/>
            </a:br>
            <a:r>
              <a:rPr b="0" lang="de-DE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66"/>
                </a:solidFill>
                <a:latin typeface="Times New Roman"/>
              </a:rPr>
              <a:t>- Energieentwertung</a:t>
            </a:r>
            <a:br>
              <a:rPr sz="2000"/>
            </a:br>
            <a:r>
              <a:rPr b="0" lang="de-DE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66"/>
                </a:solidFill>
                <a:latin typeface="Times New Roman"/>
              </a:rPr>
              <a:t>- Temperatursk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9933"/>
                </a:solidFill>
                <a:latin typeface="Times New Roman"/>
              </a:rPr>
              <a:t>Druck in Flüssigkeiten und Gasen (nur NTG: 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33"/>
                </a:solidFill>
                <a:latin typeface="Times New Roman"/>
              </a:rPr>
              <a:t>Elektrische Energie (9)</a:t>
            </a:r>
            <a:br>
              <a:rPr sz="2000"/>
            </a:br>
            <a:r>
              <a:rPr b="0" lang="de-DE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9933"/>
                </a:solidFill>
                <a:latin typeface="Times New Roman"/>
              </a:rPr>
              <a:t>- elektr. Spannung, Leist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33"/>
                </a:solidFill>
                <a:latin typeface="Times New Roman"/>
              </a:rPr>
              <a:t>Kinematik gradliniger Bewegungen (11)</a:t>
            </a:r>
            <a:br>
              <a:rPr sz="2000"/>
            </a:br>
            <a:r>
              <a:rPr b="0" lang="de-DE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66"/>
                </a:solidFill>
                <a:latin typeface="Times New Roman"/>
              </a:rPr>
              <a:t>- Kraft und Beschleuni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33"/>
                </a:solidFill>
                <a:latin typeface="Times New Roman"/>
              </a:rPr>
              <a:t>Stundenpool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10.Klasse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hysikalische Einsichten in die Tech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Elektrizitätslehre (22)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Grundaussagen, einfache Stromkreise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Lorentzkraft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Induktion</a:t>
            </a:r>
            <a:br>
              <a:rPr sz="2000"/>
            </a:b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- Halbleiter (nur NT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Aufbau von Atomen (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Hülle und Kern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Energiezustände von Hülle und Kern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Kernumwandlung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Strahlung radioaktiver Nuk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Energietechnik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System der elektrischen Energieversor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Stundenpool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11.Klasse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hysikalische Weltbi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Entwicklung des astronomischen Weltbildes 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Dynamik (25)</a:t>
            </a:r>
            <a:br>
              <a:rPr sz="2000"/>
            </a:b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Modellierung von Bewegungsabläufen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eindimensionale, zweidimensionale Beweg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Grenzen der klassischen Mechan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Wellenphänomene und Quantenmechanik (14)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Wellen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- Akustik (nur NT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Beugung und Interfere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Aspekte von Licht (Welle, Teilchen)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Teilchen haben Welleneigenschaft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Unmöglichkeit der Vorhersage von Einzelexperime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Stundenpool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Kollegstufe</a:t>
            </a:r>
            <a:br>
              <a:rPr sz="32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momentan in Arbe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Keine formale Trennung zwischen Fach (bisher gk) und Vertiefungsfach (bisher L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Im Vertiefungsfa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66"/>
                </a:solidFill>
                <a:latin typeface="Times New Roman"/>
              </a:rPr>
              <a:t>Zusätzliche Inhal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66"/>
                </a:solidFill>
                <a:latin typeface="Times New Roman"/>
              </a:rPr>
              <a:t>Vertiefung der Inhal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66"/>
                </a:solidFill>
                <a:latin typeface="Times New Roman"/>
              </a:rPr>
              <a:t>Vermehrt Experimente und Experimentalrefe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K12: </a:t>
            </a:r>
            <a:br>
              <a:rPr sz="2400"/>
            </a:b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elektr. und magnetisches Feld; Bewegung von Teilchen in Feld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K13:</a:t>
            </a:r>
            <a:br>
              <a:rPr sz="2400"/>
            </a:b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Struktur der Materie, Quantenobjekte (Elementarteilchen)</a:t>
            </a:r>
            <a:br>
              <a:rPr sz="2400"/>
            </a:br>
            <a:r>
              <a:rPr b="0" lang="de-DE" sz="2000" spc="-1" strike="noStrike">
                <a:solidFill>
                  <a:srgbClr val="ffff66"/>
                </a:solidFill>
                <a:latin typeface="Times New Roman"/>
              </a:rPr>
              <a:t>(kein historisches Vorgeh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Times New Roman"/>
              </a:rPr>
              <a:t>Vielen Dank für Ihre Aufmerksamkeit!!</a:t>
            </a:r>
            <a:br>
              <a:rPr sz="6000"/>
            </a:b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Fragen</a:t>
            </a: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Anregungen</a:t>
            </a: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Kritik</a:t>
            </a: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Disku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Stundentafel </a:t>
            </a:r>
            <a:br>
              <a:rPr sz="4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prachliches Gymna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Stundentafel%20Spr" descr=""/>
          <p:cNvPicPr/>
          <p:nvPr/>
        </p:nvPicPr>
        <p:blipFill>
          <a:blip r:embed="rId1"/>
          <a:srcRect l="2725" t="15001" r="20045" b="21666"/>
          <a:stretch/>
        </p:blipFill>
        <p:spPr>
          <a:xfrm>
            <a:off x="533520" y="2057400"/>
            <a:ext cx="8305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Überblick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Landtag bzw. KM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tundentafeln – Ausbildungsricht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3880" y="3657600"/>
          <a:ext cx="6172200" cy="2476440"/>
        </p:xfrm>
        <a:graphic>
          <a:graphicData uri="http://schemas.openxmlformats.org/drawingml/2006/table">
            <a:tbl>
              <a:tblPr/>
              <a:tblGrid>
                <a:gridCol w="771480"/>
                <a:gridCol w="771840"/>
                <a:gridCol w="771480"/>
                <a:gridCol w="771480"/>
                <a:gridCol w="771480"/>
                <a:gridCol w="771480"/>
                <a:gridCol w="771480"/>
                <a:gridCol w="771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Nu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bisher 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S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Nu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bisher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Nu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Stundenverteil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Verfügbare Stunden für ein einstündiges Fach: 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Für Leistungserhebungen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Für organisationsbed. Unterrichtsausfall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Für außerunterichtl. schulische Aktivitäten</a:t>
            </a:r>
            <a:br>
              <a:rPr sz="2400"/>
            </a:b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- </a:t>
            </a:r>
            <a:r>
              <a:rPr b="0" lang="de-DE" sz="2400" spc="-1" strike="noStrike" u="sng">
                <a:solidFill>
                  <a:srgbClr val="ffff66"/>
                </a:solidFill>
                <a:uFillTx/>
                <a:latin typeface="Times New Roman"/>
              </a:rPr>
              <a:t>fächerübergreifende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 Erweiterung, Vertiefung,</a:t>
            </a:r>
            <a:br>
              <a:rPr sz="2400"/>
            </a:b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  Differenzierung</a:t>
            </a:r>
            <a:br>
              <a:rPr sz="2400"/>
            </a:b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- </a:t>
            </a:r>
            <a:r>
              <a:rPr b="0" lang="de-DE" sz="2400" spc="-1" strike="noStrike" u="sng">
                <a:solidFill>
                  <a:srgbClr val="ffff66"/>
                </a:solidFill>
                <a:uFillTx/>
                <a:latin typeface="Times New Roman"/>
              </a:rPr>
              <a:t>fachliche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 Erweiterung, Vertiefung,</a:t>
            </a:r>
            <a:br>
              <a:rPr sz="2400"/>
            </a:b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  Differenzierung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de-DE" sz="2800" spc="-1" strike="noStrike">
                <a:solidFill>
                  <a:srgbClr val="ff9933"/>
                </a:solidFill>
                <a:latin typeface="Times New Roman"/>
              </a:rPr>
              <a:t>Zu verplanende Unterrichtsstunden         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9933"/>
                </a:solidFill>
                <a:latin typeface="Times New Roman"/>
              </a:rPr>
              <a:t>( 2 Stunden weniger als bisher; in Physik zusätzlich 5 Stunden Pool eingepla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efragung zum Lehrpla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752480"/>
            <a:ext cx="7467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Stand März 200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Lehrplanbeirat: Lehrer, Schüler, Eltern, Wirtschaft, Hochschule, Verbände, Verl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3662280"/>
            <a:ext cx="76201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Lehr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s wurden insgesamt 180 Lehrkräfte befrag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avon hatten 74% im Mathematisch-naturwissenschaftlichen Gymnasium und 83% im Nichtmathematisch-naturwissenschaftlichen Gymnasien Unterrichtserfahr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efragung der Physiklehrer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981080"/>
            <a:ext cx="7467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9933"/>
                </a:solidFill>
                <a:latin typeface="Arial"/>
              </a:rPr>
              <a:t>(Angaben in Prozent: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66"/>
                </a:solidFill>
                <a:latin typeface="Arial"/>
              </a:rPr>
              <a:t>Die Stundenrichtwerte sind hilfre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ja 83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nein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66"/>
                </a:solidFill>
                <a:latin typeface="Arial"/>
              </a:rPr>
              <a:t>Sollten neue Inhalte aufgenommen we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ja 40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nein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66"/>
                </a:solidFill>
                <a:latin typeface="Arial"/>
              </a:rPr>
              <a:t>Hat sich das bestehende Konzept der Addita bewäh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ja 70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nein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efragung der Physiklehrer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600200"/>
            <a:ext cx="74674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66"/>
                </a:solidFill>
                <a:latin typeface="Arial"/>
              </a:rPr>
              <a:t>Sollen weitere Themenbereiche als Addita aufgenommen we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ja 26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nein 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66"/>
                </a:solidFill>
                <a:latin typeface="Arial"/>
              </a:rPr>
              <a:t>Haben sich Lehrplanalternativen für Grundkurs bewäh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ja 74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nein 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66"/>
                </a:solidFill>
                <a:latin typeface="Arial"/>
              </a:rPr>
              <a:t>Unterrichtserfahrung mit Grundkurs Astronom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ja 35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nein 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66"/>
                </a:solidFill>
                <a:latin typeface="Arial"/>
              </a:rPr>
              <a:t>Unterrichtserfahrung Grundkurs Informati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ja 1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nein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efragung der Physiklehrer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181920" cy="2324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295280" y="4038480"/>
            <a:ext cx="62391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7T09:40:29Z</dcterms:created>
  <dc:creator>Norbert Schell</dc:creator>
  <dc:description/>
  <dc:language>en-US</dc:language>
  <cp:lastModifiedBy>werner</cp:lastModifiedBy>
  <dcterms:modified xsi:type="dcterms:W3CDTF">2002-10-13T22:35:12Z</dcterms:modified>
  <cp:revision>23</cp:revision>
  <dc:subject/>
  <dc:title>Fachsitzung Physik am 22.10.2001</dc:title>
</cp:coreProperties>
</file>